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336-B51D-48D5-8660-BDFCE9D0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C3E-2C46-412D-B1E5-065581B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D71-9EC5-42C4-813C-DEF69132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C3D-FF2F-457B-98AE-5964CDF9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578F-E525-43FB-8992-8B25E3A3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D059-7458-40D0-BCD1-F2E202C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1E6F-7FF2-4D16-93DA-AFC559A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D13-D11D-4A54-9734-769D3685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5141-C850-431A-8B35-06227B3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A81-F86E-45BB-9232-6012B314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5CC-F1A7-4789-A346-BF9DAFA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F32-9117-48F1-A875-F4CB79BE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4BAA-6279-45E3-A4A1-1EE3108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0114-38E1-488B-BF3C-E63B8BF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C000-2401-448A-ACE7-0078584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F4C-F1AB-4376-AAF7-D894865B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176D-A162-49A4-B7B1-F707C8FD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9B1-EBC1-4BFE-ADAE-B8F4205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10B-3583-4D7A-A97B-CCE7D864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C98-0141-44EF-85B8-96DED2E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572-36B0-416B-927A-F11EDF7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799-B629-44B3-85C1-431D59E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081-DDB5-4857-B1CE-4ADE929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1ED-F945-4FB0-9132-E1D4EBC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D57D-E796-4E88-9862-59D54AE7E6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E70C-C8EA-4D37-BC4E-9AF3AE3301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6,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g.41-4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1:2 – 2:2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2320" y="228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ere Were Are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920" y="297144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0574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5530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haziah’s Acci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nal Days of Elijah’s Ministry – 2 Kings 1:1 -2: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jah and Ahaziah -1:1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ll 1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oretelling – 1:3-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ury – 1:5-9,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ire – 1:10,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vor – 1:13-1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ulfillment – 1:16-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jah Is Taken Up To Heav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jah and Elisha – 2: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ir Final Journey Toge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oute – 2:1-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iver – 2:7-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quest – 2: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quirement – 2: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moval – 2: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4297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05320" y="3276720"/>
            <a:ext cx="914400" cy="533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3505320"/>
            <a:ext cx="1066680" cy="533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886200"/>
            <a:ext cx="11430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304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 Places To Remember: Gilgal, Bethel, Jericho, and the Jordan Ri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3124080"/>
            <a:ext cx="30456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Days of Elisha’s Minist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arts The Jordan – 2:12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acifies Some Prophets – 15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urifies Some Water – 19-2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609480"/>
            <a:ext cx="3048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ces of Note In Our Text – 2 Kings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ILGAL – v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THEL – v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RICHO –v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JORDAN RIVER –v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504960" y="1447920"/>
            <a:ext cx="2438280" cy="2209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1828800"/>
            <a:ext cx="2895480" cy="1752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2362320"/>
            <a:ext cx="25905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352320" y="2895480"/>
            <a:ext cx="2514600" cy="76212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733920"/>
            <a:ext cx="32004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thel – House of G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richo – Vi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rdan – New Beg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haps each place was a great reminder as Elijah passed the mantle on to Elis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6:59:46Z</dcterms:created>
  <dc:creator>Terry W. Benton</dc:creator>
  <dc:description/>
  <dc:language>en-US</dc:language>
  <cp:lastModifiedBy>Frank D Vines</cp:lastModifiedBy>
  <dcterms:modified xsi:type="dcterms:W3CDTF">2005-08-03T14:07:19Z</dcterms:modified>
  <cp:revision>2</cp:revision>
  <dc:subject/>
  <dc:title>Till There Was No Remedy (The Divided Kingdom)</dc:title>
</cp:coreProperties>
</file>